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7EB8-E93A-4CF4-9A7C-45089C6B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123B-FE6D-4AAD-9FDA-443801B7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CCA-993F-43D1-BFB0-133576FF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06F-2AC5-4366-836D-27508064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97648-2236-4652-AB4A-D90743DD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D28C8-6D92-4121-8A7D-8D8A234E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48D3F-B387-4F30-8C53-4DB57F04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D2C78-EF1C-4BA5-91C5-FB2525D4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9B27C-7FCD-41B0-9275-4CA86C7E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5A25E-F64A-4F52-8437-CACF3F19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9B88E-45F4-4F67-B611-6CAE310E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F0D-4E36-4160-9102-F85B80F1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EECFE-CC55-480A-8878-08E8C2ED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6D82A-A941-4314-8AD1-3CCC4F6D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1AB3A-23B9-4F9F-98BA-38733EF3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82327-AE65-4DBD-96D7-F5759AE1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4D11C-1332-47E9-825C-7BB4E191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594-AA01-47C4-98A8-4759D35E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612-7065-4DF2-8061-30843AE7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845-6E6E-4202-91F3-AE740596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36B-BDD2-4EB2-9C5D-184B22BF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8D4-28B1-4A44-88D5-BE4A9B07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7BA6-185B-4EBA-95FF-74E50B59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A5C-0ABA-4E26-ACD5-EFD8371D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082C-5C82-45EA-9642-05A865CD8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CB25-86DC-4357-8A91-3B37E015D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cience Career</a:t>
            </a:r>
            <a:br>
              <a:rPr sz="24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(Select a career in science that has a role in the world you would enjo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ype this box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N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 N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ob descrip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box describe duties and responsibilities for this car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can I do now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st here activities and learning that you can do that will develop skills needed for this jo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ple: If skill is Team player- you could li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Join a club such as 4-H, FFA, FLBA, science club or school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ple: be good with computer technology- li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ake extra computer cla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ducation Requirem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is box write what schooling is nee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ample</a:t>
            </a: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achelors degree in science (4 to 5 y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nefi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rite the insurance, retirement, vacation, travel perks, discounts, trianing, education, other opportuni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ow Me the Money $$$$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Here, write the amount for starting and mid-career sala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ere also may be a difference depending on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Example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tarting salary $60, 000 dolla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(that is $5,000 each month or $1,250 each week, that is $250 each day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I would like this care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15:58:22Z</dcterms:created>
  <dc:creator>Christine.Clark</dc:creator>
  <dc:description/>
  <dc:language>en-US</dc:language>
  <cp:lastModifiedBy>Christine.Clark</cp:lastModifiedBy>
  <dcterms:modified xsi:type="dcterms:W3CDTF">2010-08-06T16:32:10Z</dcterms:modified>
  <cp:revision>6</cp:revision>
  <dc:subject/>
  <dc:title>Science Career (Select a career in science that has a role in the world you would enjoy type this box)</dc:title>
</cp:coreProperties>
</file>